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136-2A38-42DF-B325-E7ACA71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A76-283A-4FF7-8F9D-A283F386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F14-5016-4E77-80BF-E16221D6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DD2-6DD0-4456-917A-3A976D31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C67C-DE61-446A-AD46-5690A754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E5B2-6186-410B-A7E3-B560E338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61E-7798-459E-908A-3F648451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ADF6-27E9-4F19-A8D6-9A448120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4B21-7097-4320-A00A-48ED37BD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680-A4B9-4E8A-965F-EACA3F6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0F71-50A8-49C7-B9AB-796FD84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D1C-8564-49AB-8315-3C4B68C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FA27-2FDE-4D93-947D-7067025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BDEA-CA10-47E6-83DD-952562CA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13E0-269D-4EA7-A994-D96F4780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1D55-A09C-4F2E-81E4-49D69DA8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D446-98B7-4BEF-B928-7AAA7CF5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C5EAE-3832-433E-B3E5-B70DEC85F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B976F-0D46-4C39-9085-6F840115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CD725-2FCE-42B5-ADD8-10F1B66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F5A64-214D-4860-8C1A-A4FC80F2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0D7C3-0486-4EC3-9325-B7AFA98E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B51-203E-40E4-ADCF-453DD2EF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9B3D8-B944-44FE-B704-1382F7E6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91A6B-6E80-4D1E-9F07-14A81253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062D9-4128-46AB-89D9-CCFCACA8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3DF01-0727-453B-8659-01C6145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597B1-1042-40AB-8895-3E9F8F17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44BED-A8C5-45FD-9841-BD3C292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EE745-28D1-44DA-B005-ED007E0623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620-21A1-4C0C-B1AE-A068D68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A4F-7E15-4A96-9661-D85DF49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0EC-2A7F-475D-A309-215D3B26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0F6-879B-4826-AE9E-6C1EDCC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1E5-879E-4F40-99D6-79C855F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6C3-ADDB-4FF4-87CB-1570BFA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1E0F-4AFA-4D3B-9821-3D6C20B73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IWMI logo.jpg"/>
          <p:cNvPicPr/>
          <p:nvPr/>
        </p:nvPicPr>
        <p:blipFill>
          <a:blip r:embed="rId2"/>
          <a:stretch/>
        </p:blipFill>
        <p:spPr>
          <a:xfrm>
            <a:off x="7662960" y="5756400"/>
            <a:ext cx="733320" cy="534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WMI 25 yrs_logo-1.jpg"/>
          <p:cNvPicPr/>
          <p:nvPr/>
        </p:nvPicPr>
        <p:blipFill>
          <a:blip r:embed="rId3"/>
          <a:stretch/>
        </p:blipFill>
        <p:spPr>
          <a:xfrm>
            <a:off x="8534520" y="5711760"/>
            <a:ext cx="53316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IWMI logo.jpg"/>
          <p:cNvPicPr/>
          <p:nvPr/>
        </p:nvPicPr>
        <p:blipFill>
          <a:blip r:embed="rId2"/>
          <a:stretch/>
        </p:blipFill>
        <p:spPr>
          <a:xfrm>
            <a:off x="7662960" y="5756400"/>
            <a:ext cx="733320" cy="53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IWMI 25 yrs_logo-1.jpg"/>
          <p:cNvPicPr/>
          <p:nvPr/>
        </p:nvPicPr>
        <p:blipFill>
          <a:blip r:embed="rId3"/>
          <a:stretch/>
        </p:blipFill>
        <p:spPr>
          <a:xfrm>
            <a:off x="8534520" y="5711760"/>
            <a:ext cx="53316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8B8-389C-4072-A12A-ABA76E8EA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8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1" descr="IWMI logo.jpg"/>
          <p:cNvPicPr/>
          <p:nvPr/>
        </p:nvPicPr>
        <p:blipFill>
          <a:blip r:embed="rId2"/>
          <a:stretch/>
        </p:blipFill>
        <p:spPr>
          <a:xfrm>
            <a:off x="7662960" y="5756400"/>
            <a:ext cx="733320" cy="53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IWMI 25 yrs_logo-1.jpg"/>
          <p:cNvPicPr/>
          <p:nvPr/>
        </p:nvPicPr>
        <p:blipFill>
          <a:blip r:embed="rId3"/>
          <a:stretch/>
        </p:blipFill>
        <p:spPr>
          <a:xfrm>
            <a:off x="8534520" y="5711760"/>
            <a:ext cx="533160" cy="689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1E6-5540-4D7E-9479-08BB53796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A LANDSCAPE APPROACH TO RAINWATER MANAGEMENT IN ETHIOPI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Targeting and Scaling 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isa-Maria Rebe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WMI Addis Aba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3 Partner Technical Meeting, March 28-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60069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533520" y="838080"/>
            <a:ext cx="82296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PWF Phase 1 - Nile BFP Project Objectiv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Arial Unicode MS"/>
              </a:rPr>
              <a:t>To identify high potential water management interventions to reduce poverty and increase water produ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Background assessment of the Nile 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487600"/>
            <a:ext cx="8229600" cy="323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are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numerous opportunitie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o manage water better for agriculture in order to improve productivity, food security and liveliho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ile most of the focus has been on river water, we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start with rainfal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o look for opportunities outside of the r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gnificant gains can be made through improving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infed production system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hrough better agricultural water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spcAft>
                <a:spcPts val="113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ss to water is related to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over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 availability – need to differentiate betwee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cces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spcAft>
                <a:spcPts val="113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upstream basin countries water access is limited, and water productivity low – key to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over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red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243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Background assessment of the Nile bas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dmolden\AppData\Local\Microsoft\Windows\Temporary Internet Files\Content.Outlook\K2QFA3U0\Producion_system_countries borders (2).jpg"/>
          <p:cNvPicPr/>
          <p:nvPr/>
        </p:nvPicPr>
        <p:blipFill>
          <a:blip r:embed="rId2"/>
          <a:srcRect l="0" t="0" r="9272" b="0"/>
          <a:stretch/>
        </p:blipFill>
        <p:spPr>
          <a:xfrm>
            <a:off x="6019920" y="1219320"/>
            <a:ext cx="3147840" cy="510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2" name="Picture 2" descr="C:\Users\dmolden\AppData\Local\Microsoft\Windows\Temporary Internet Files\Content.Outlook\K2QFA3U0\Hydronoamic zones_11 August_countries borders.jpg"/>
          <p:cNvPicPr/>
          <p:nvPr/>
        </p:nvPicPr>
        <p:blipFill>
          <a:blip r:embed="rId3"/>
          <a:stretch/>
        </p:blipFill>
        <p:spPr>
          <a:xfrm>
            <a:off x="2722680" y="1219320"/>
            <a:ext cx="3144600" cy="5110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3" name="TextBox 5"/>
          <p:cNvSpPr/>
          <p:nvPr/>
        </p:nvSpPr>
        <p:spPr>
          <a:xfrm>
            <a:off x="0" y="1612800"/>
            <a:ext cx="2666880" cy="1465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Water consump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 = 1745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ET – 190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rrigated ET – 67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flow – 10 to 30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0" y="3352680"/>
            <a:ext cx="266688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mited options to expand irrigation, ample options to upgrade agriculture on rainfed 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76320" y="152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Background assessment of the Nile bas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RWM Intervention Analysi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at are the existing water related interventions in the basin under various production syste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ich interventions have succeeded and which ones failed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ich future interventions are needed to have a high impact on poverty, water availability, access and productivity for various target grou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743200"/>
            <a:ext cx="5562720" cy="37339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duction/farming system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rop/Livestock/Rainf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Biophysica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frastruct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Water and land based (eg watershed manage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ocio-economic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 trade, virtual wa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ydropower-generation, power trade, interconn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dustrial – value add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stitutions and polic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stitutional innovations, basin, sub-basin instit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nefit/water-sha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D:\Ilri\various\NBDC_LogoBigSize_PV.jpg"/>
          <p:cNvPicPr/>
          <p:nvPr/>
        </p:nvPicPr>
        <p:blipFill>
          <a:blip r:embed="rId1"/>
          <a:srcRect l="0" t="0" r="0" b="10447"/>
          <a:stretch/>
        </p:blipFill>
        <p:spPr>
          <a:xfrm>
            <a:off x="0" y="5638680"/>
            <a:ext cx="213372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913040" y="382680"/>
            <a:ext cx="5194080" cy="3427200"/>
          </a:xfrm>
          <a:prstGeom prst="rect">
            <a:avLst/>
          </a:prstGeom>
          <a:solidFill>
            <a:srgbClr val="4f81b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treme biophysical variation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levation, soil, clim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pulation pressure and land degra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hortage of 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croachment to marginal 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xacerbating deforestation and ero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duced land and water produc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or infrastructur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mited use of modern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ack of site specific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ack of integrated approa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355760" y="223920"/>
            <a:ext cx="549360" cy="4119480"/>
          </a:xfrm>
          <a:custGeom>
            <a:avLst/>
            <a:gdLst>
              <a:gd name="textAreaLeft" fmla="*/ 351000 w 549360"/>
              <a:gd name="textAreaRight" fmla="*/ 549720 w 549360"/>
              <a:gd name="textAreaTop" fmla="*/ 50400 h 4119480"/>
              <a:gd name="textAreaBottom" fmla="*/ 4069080 h 411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5"/>
                  <a:pt x="10800" y="850"/>
                </a:cubicBezTo>
                <a:lnTo>
                  <a:pt x="10800" y="9950"/>
                </a:lnTo>
                <a:cubicBezTo>
                  <a:pt x="10800" y="10375"/>
                  <a:pt x="5400" y="10800"/>
                  <a:pt x="0" y="10800"/>
                </a:cubicBezTo>
                <a:cubicBezTo>
                  <a:pt x="5400" y="10800"/>
                  <a:pt x="10800" y="11225"/>
                  <a:pt x="10800" y="11650"/>
                </a:cubicBezTo>
                <a:lnTo>
                  <a:pt x="10800" y="20750"/>
                </a:lnTo>
                <a:cubicBezTo>
                  <a:pt x="10800" y="211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6"/>
          <p:cNvSpPr/>
          <p:nvPr/>
        </p:nvSpPr>
        <p:spPr>
          <a:xfrm rot="16200000">
            <a:off x="-1120320" y="2064960"/>
            <a:ext cx="3809880" cy="7462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Major challenges to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ounded Rectangle 9"/>
          <p:cNvSpPr/>
          <p:nvPr/>
        </p:nvSpPr>
        <p:spPr>
          <a:xfrm>
            <a:off x="539640" y="4572000"/>
            <a:ext cx="8066160" cy="785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Calibri"/>
              </a:rPr>
              <a:t>Required: </a:t>
            </a: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Identification + disseminate of site specific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Calibri"/>
              </a:rPr>
              <a:t>Pre-requisite: </a:t>
            </a: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identify “Homogeneous Unit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Down Arrow 10"/>
          <p:cNvSpPr/>
          <p:nvPr/>
        </p:nvSpPr>
        <p:spPr>
          <a:xfrm>
            <a:off x="4419720" y="3809880"/>
            <a:ext cx="431640" cy="642960"/>
          </a:xfrm>
          <a:prstGeom prst="downArrow">
            <a:avLst>
              <a:gd name="adj1" fmla="val 50000"/>
              <a:gd name="adj2" fmla="val 66203"/>
            </a:avLst>
          </a:prstGeom>
          <a:solidFill>
            <a:srgbClr val="ff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7"/>
          <p:cNvSpPr/>
          <p:nvPr/>
        </p:nvSpPr>
        <p:spPr>
          <a:xfrm rot="10800000">
            <a:off x="7035840" y="228600"/>
            <a:ext cx="644400" cy="4038480"/>
          </a:xfrm>
          <a:custGeom>
            <a:avLst/>
            <a:gdLst>
              <a:gd name="textAreaLeft" fmla="*/ 411840 w 644400"/>
              <a:gd name="textAreaRight" fmla="*/ 644760 w 644400"/>
              <a:gd name="textAreaTop" fmla="*/ 49680 h 4038480"/>
              <a:gd name="textAreaBottom" fmla="*/ 398880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5"/>
                  <a:pt x="10800" y="850"/>
                </a:cubicBezTo>
                <a:lnTo>
                  <a:pt x="10800" y="9950"/>
                </a:lnTo>
                <a:cubicBezTo>
                  <a:pt x="10800" y="10375"/>
                  <a:pt x="5400" y="10800"/>
                  <a:pt x="0" y="10800"/>
                </a:cubicBezTo>
                <a:cubicBezTo>
                  <a:pt x="5400" y="10800"/>
                  <a:pt x="10800" y="11225"/>
                  <a:pt x="10800" y="11650"/>
                </a:cubicBezTo>
                <a:lnTo>
                  <a:pt x="10800" y="20750"/>
                </a:lnTo>
                <a:cubicBezTo>
                  <a:pt x="10800" y="211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6"/>
          <p:cNvSpPr/>
          <p:nvPr/>
        </p:nvSpPr>
        <p:spPr>
          <a:xfrm rot="5400000">
            <a:off x="6312600" y="1892880"/>
            <a:ext cx="3962520" cy="93816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Increased poverty, food insecurit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vulnerability to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rcRect l="0" t="0" r="0" b="35950"/>
          <a:stretch/>
        </p:blipFill>
        <p:spPr>
          <a:xfrm>
            <a:off x="914400" y="2438280"/>
            <a:ext cx="7315200" cy="2984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CPWF Phase 2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alibri"/>
              </a:rPr>
              <a:t>N3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: A landscape approach to rainwater management in Ethiopia - Targeting and Scaling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1066680" y="1295280"/>
            <a:ext cx="708660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atching technologies (or whole strategies) to environment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Suitability of technologies may be influenced b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many different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“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Blanket” RMS are often inappropriat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D:\Ilri\various\NBDC_LogoBigSize_PV.jpg"/>
          <p:cNvPicPr/>
          <p:nvPr/>
        </p:nvPicPr>
        <p:blipFill>
          <a:blip r:embed="rId2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243000"/>
            <a:ext cx="807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CPWF Phase 2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304920" y="990720"/>
            <a:ext cx="85341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N3 aims to identify the conditions – biophysical/socioeconomic/institutional – that favour the use of particular sets of practices, then scan the landscape to find out where else these conditions prevai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(the “conditionality of recommendations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4419360" cy="2198520"/>
          </a:xfrm>
          <a:prstGeom prst="rect">
            <a:avLst/>
          </a:prstGeom>
          <a:ln w="0">
            <a:noFill/>
          </a:ln>
        </p:spPr>
      </p:pic>
      <p:sp>
        <p:nvSpPr>
          <p:cNvPr id="165" name="Content Placeholder 2"/>
          <p:cNvSpPr/>
          <p:nvPr/>
        </p:nvSpPr>
        <p:spPr>
          <a:xfrm>
            <a:off x="990720" y="4952880"/>
            <a:ext cx="7238880" cy="457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 the targeting of interventions and enable successful scaling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243000"/>
            <a:ext cx="807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CPWF Phase 2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304920" y="1066680"/>
            <a:ext cx="8534160" cy="2133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Matching interventions to enviro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aseline assessments of biophysical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dentification of RWM interventions and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atching of RWM systems to conditions on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inking of interventions to extrapolation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ssessment of potential biophysical and socioeconomic impac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304920" y="3505320"/>
            <a:ext cx="8534160" cy="1600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Identification of interventions th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)  currently exist in the ba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i) are available elsew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argeting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45720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Calibri"/>
              </a:rPr>
              <a:t>CPWF Phase 2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Calibri"/>
              </a:rPr>
              <a:t>N3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: A landscape approach to rainwater management in Ethiopia - Targeting and Scaling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0" y="2133720"/>
            <a:ext cx="9144000" cy="2133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3:29:36Z</dcterms:created>
  <dc:creator>Lisa M. Rebelo</dc:creator>
  <dc:description/>
  <dc:language>en-US</dc:language>
  <cp:lastModifiedBy>Lisa M. Rebelo</cp:lastModifiedBy>
  <dcterms:modified xsi:type="dcterms:W3CDTF">2011-03-28T05:07:59Z</dcterms:modified>
  <cp:revision>23</cp:revision>
  <dc:subject/>
  <dc:title>N3: On Targeting and Scaling out</dc:title>
</cp:coreProperties>
</file>